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34A-CE90-4983-B68D-D2B9DF01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9242-5089-4086-BC5B-A114777E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3E2C-E0AA-4E38-8C29-76D942AC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D317-9059-462E-9739-C03F2AB1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0B13-D6CF-49BA-A417-2A1273E1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10B4-9866-4DB9-89EC-019E4182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4638-59E6-4F55-8F9E-CC779584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CC33-BC9F-480C-A68A-17C276BE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ED3B-D842-4EB2-BDED-04AC4C84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4983-B848-4A3C-94F1-A3DC2873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386F-3E11-4EC6-946A-02BA788E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732-B84D-41AF-A117-920F1533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304F-D022-40BA-BEBB-BBDBF511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1867-21C7-413C-ACDE-AAC8A484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DAF8-B421-46D8-9568-A9ED999D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D455-7EA3-47B1-9AEA-7FE5F0D2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119D-0EFE-4846-8C2E-411237AA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0BB-96DF-4AC7-A5C5-2F83BE14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5E0-37C2-463A-81E7-779EF098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442D-C5AE-4205-B6AF-9E6022BA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68A-DDB3-46E1-901F-5DDDAC1A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3552-5DE3-4D95-B563-87C5271D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C65F-9BCF-45C2-B8F6-79039C6F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A17E-157D-4225-BC55-AEA9C7B5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51F1-BD01-4CAE-A088-70D64B1C67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FB6D-ADB5-4715-BE17-5287C5DFEA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685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600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2720" y="685800"/>
            <a:ext cx="399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stituição de 1946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752480"/>
            <a:ext cx="8686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. 15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 aproveitamento dos recursos minerais e de energia hidráulica depende de autorização ou concessão federal, na forma da le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 1°. As autorizações ou concessões serão conferidas exclusivamente a brasileiros ou a sociedade organizadas no país, assegurada ao proprietário do solo preferência para a exploração. Os direitos de preferência do proprietário do solo, quanto às minas e jazidas, serão regulados de acordo com a natureza de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34400" y="6491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990720"/>
            <a:ext cx="870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§ 2°. Não dependerá de autorização ou concessão o aproveitamento de energia hidráulica de potência reduz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§ 3°. Satisfeita as condições exigidas pela lei, entre as quais a de possuírem os necessários serviços técnicos e administrativos, os estados passarão a exercer nos seus territórios a atribuição constante deste art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§ 4°. A União, nos caso de interesse geral indicados em lei, auxiliará os estados nos estudos referentes às águas termominerais de aplicação medicinal e no aparelhamento das estâncias destinadas ao uso de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45:56Z</dcterms:created>
  <dc:creator>Alexandre Braule</dc:creator>
  <dc:description/>
  <dc:language>en-US</dc:language>
  <cp:lastModifiedBy>Alexandre Braule</cp:lastModifiedBy>
  <dcterms:modified xsi:type="dcterms:W3CDTF">2004-08-10T18:49:54Z</dcterms:modified>
  <cp:revision>76</cp:revision>
  <dc:subject/>
  <dc:title>Apresentação do PowerPoint</dc:title>
</cp:coreProperties>
</file>